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8F44-4DB5-41F7-B692-368227500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DD8-D5B1-4591-A441-4B512920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1BE2-0491-42D5-8684-D805BA59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882-FCE8-4032-9800-FCDE6322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74C6-2AE5-436C-B4CA-7412A695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7F1-51D5-4EE2-95A1-F0A3BD51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31D-FBC9-4C11-BF39-9A143721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487-43D8-4621-9395-94EB7C98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BA56-47E5-428E-8DE9-4D01EB62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F06-7E82-4AD0-8C75-3061E3C9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5D4E-3BD1-4751-A3C5-63D4D778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DCD-E589-4617-AE3E-82AD7484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7CC248-B645-40E4-9D65-5DF0AFCF5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960" y="3362400"/>
            <a:ext cx="4196160" cy="19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Местонахождение:</a:t>
            </a:r>
            <a:br>
              <a:rPr sz="2400"/>
            </a:b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г. Н-ск, 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Отрасль: Машиностро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74640" y="988920"/>
            <a:ext cx="8038080" cy="64116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OAO  "Машиностроительный Завод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4160" y="1996920"/>
            <a:ext cx="5791680" cy="57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Инвестиционное предлож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4191120"/>
            <a:ext cx="350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тавить рису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7080" y="3282840"/>
            <a:ext cx="3873240" cy="257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E04-14A5-460C-A1B6-242F89C005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76440" y="4952880"/>
            <a:ext cx="381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дукт 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64000" y="4952880"/>
            <a:ext cx="3094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дукт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34240" y="768240"/>
            <a:ext cx="8101080" cy="1607400"/>
            <a:chOff x="534240" y="768240"/>
            <a:chExt cx="8101080" cy="1607400"/>
          </a:xfrm>
        </p:grpSpPr>
        <p:sp>
          <p:nvSpPr>
            <p:cNvPr id="76" name=""/>
            <p:cNvSpPr/>
            <p:nvPr/>
          </p:nvSpPr>
          <p:spPr>
            <a:xfrm>
              <a:off x="534240" y="768240"/>
              <a:ext cx="4900320" cy="7020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ff"/>
                  </a:solidFill>
                  <a:latin typeface="Times New Roman"/>
                </a:rPr>
                <a:t>Описание компании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01000" y="1003320"/>
              <a:ext cx="2434320" cy="1372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imes New Roman"/>
                </a:rPr>
                <a:t>Продукция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imes New Roman"/>
                </a:rPr>
                <a:t>выпускаемая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imes New Roman"/>
                </a:rPr>
                <a:t>сегодн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81480" y="137160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920880" y="2521080"/>
            <a:ext cx="3340080" cy="2044440"/>
            <a:chOff x="920880" y="2521080"/>
            <a:chExt cx="3340080" cy="2044440"/>
          </a:xfrm>
        </p:grpSpPr>
        <p:sp>
          <p:nvSpPr>
            <p:cNvPr id="80" name=""/>
            <p:cNvSpPr/>
            <p:nvPr/>
          </p:nvSpPr>
          <p:spPr>
            <a:xfrm>
              <a:off x="1295280" y="3276720"/>
              <a:ext cx="2667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ФОТ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0880" y="2521080"/>
              <a:ext cx="3340080" cy="204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187960" y="2521080"/>
            <a:ext cx="3340080" cy="2044440"/>
            <a:chOff x="5187960" y="2521080"/>
            <a:chExt cx="3340080" cy="2044440"/>
          </a:xfrm>
        </p:grpSpPr>
        <p:sp>
          <p:nvSpPr>
            <p:cNvPr id="83" name=""/>
            <p:cNvSpPr/>
            <p:nvPr/>
          </p:nvSpPr>
          <p:spPr>
            <a:xfrm>
              <a:off x="5562720" y="3276720"/>
              <a:ext cx="2666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ФОТ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7960" y="2521080"/>
              <a:ext cx="3340080" cy="204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D2A1-A9A0-44BF-B6D6-7F12D4E30D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2593800"/>
            <a:ext cx="815328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34240" y="768240"/>
            <a:ext cx="7839360" cy="1180800"/>
            <a:chOff x="534240" y="768240"/>
            <a:chExt cx="7839360" cy="1180800"/>
          </a:xfrm>
        </p:grpSpPr>
        <p:sp>
          <p:nvSpPr>
            <p:cNvPr id="87" name=""/>
            <p:cNvSpPr/>
            <p:nvPr/>
          </p:nvSpPr>
          <p:spPr>
            <a:xfrm>
              <a:off x="534240" y="768240"/>
              <a:ext cx="4900320" cy="7020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ff"/>
                  </a:solidFill>
                  <a:latin typeface="Times New Roman"/>
                </a:rPr>
                <a:t>Описание компании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45080" y="1003320"/>
              <a:ext cx="1928520" cy="945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imes New Roman"/>
                </a:rPr>
                <a:t>Будущая</a:t>
              </a:r>
              <a:br>
                <a:rPr sz="2800"/>
              </a:br>
              <a:r>
                <a:rPr b="1" lang="en-US" sz="2800" spc="-1" strike="noStrike">
                  <a:solidFill>
                    <a:srgbClr val="6600ff"/>
                  </a:solidFill>
                  <a:latin typeface="Times New Roman"/>
                </a:rPr>
                <a:t>продукц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1480" y="137160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8A04-4ED5-4F50-BAB9-57BF37513B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76440" y="4952880"/>
            <a:ext cx="381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дукт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4000" y="4952880"/>
            <a:ext cx="30942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дукт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34240" y="768240"/>
            <a:ext cx="7839360" cy="1180800"/>
            <a:chOff x="534240" y="768240"/>
            <a:chExt cx="7839360" cy="1180800"/>
          </a:xfrm>
        </p:grpSpPr>
        <p:sp>
          <p:nvSpPr>
            <p:cNvPr id="93" name=""/>
            <p:cNvSpPr/>
            <p:nvPr/>
          </p:nvSpPr>
          <p:spPr>
            <a:xfrm>
              <a:off x="534240" y="768240"/>
              <a:ext cx="4900320" cy="7020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ff"/>
                  </a:solidFill>
                  <a:latin typeface="Times New Roman"/>
                </a:rPr>
                <a:t>Описание компании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45080" y="1003320"/>
              <a:ext cx="1928520" cy="945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imes New Roman"/>
                </a:rPr>
                <a:t>Будущая</a:t>
              </a:r>
              <a:br>
                <a:rPr sz="2800"/>
              </a:br>
              <a:r>
                <a:rPr b="1" lang="en-US" sz="2800" spc="-1" strike="noStrike">
                  <a:solidFill>
                    <a:srgbClr val="6600ff"/>
                  </a:solidFill>
                  <a:latin typeface="Times New Roman"/>
                </a:rPr>
                <a:t>продукц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81480" y="137160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20880" y="2521080"/>
            <a:ext cx="3340080" cy="2044440"/>
            <a:chOff x="920880" y="2521080"/>
            <a:chExt cx="3340080" cy="2044440"/>
          </a:xfrm>
        </p:grpSpPr>
        <p:sp>
          <p:nvSpPr>
            <p:cNvPr id="97" name=""/>
            <p:cNvSpPr/>
            <p:nvPr/>
          </p:nvSpPr>
          <p:spPr>
            <a:xfrm>
              <a:off x="1295280" y="3276720"/>
              <a:ext cx="2667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ФОТ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20880" y="2521080"/>
              <a:ext cx="3340080" cy="204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187960" y="2521080"/>
            <a:ext cx="3340080" cy="2044440"/>
            <a:chOff x="5187960" y="2521080"/>
            <a:chExt cx="3340080" cy="2044440"/>
          </a:xfrm>
        </p:grpSpPr>
        <p:sp>
          <p:nvSpPr>
            <p:cNvPr id="100" name=""/>
            <p:cNvSpPr/>
            <p:nvPr/>
          </p:nvSpPr>
          <p:spPr>
            <a:xfrm>
              <a:off x="5562720" y="3276720"/>
              <a:ext cx="2666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ФОТОГРАФ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87960" y="2521080"/>
              <a:ext cx="3340080" cy="2044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0AA5-0827-42CA-A80A-F43E3BAC29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79840" y="898560"/>
            <a:ext cx="4222080" cy="945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Выпускаемая продукция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(сравнительный анализ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2620800"/>
          <a:ext cx="9142560" cy="188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0800"/>
                    <a:ext cx="914256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258-C415-4382-BC07-817A201C88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78760" y="914400"/>
            <a:ext cx="3524040" cy="702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Анализ рын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2585880"/>
          <a:ext cx="9142560" cy="164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85880"/>
                    <a:ext cx="914256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7E6-915A-458C-A539-48A411065E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878760" y="685800"/>
            <a:ext cx="6946560" cy="1555200"/>
            <a:chOff x="878760" y="685800"/>
            <a:chExt cx="6946560" cy="1555200"/>
          </a:xfrm>
        </p:grpSpPr>
        <p:sp>
          <p:nvSpPr>
            <p:cNvPr id="109" name=""/>
            <p:cNvSpPr/>
            <p:nvPr/>
          </p:nvSpPr>
          <p:spPr>
            <a:xfrm>
              <a:off x="1413360" y="1782720"/>
              <a:ext cx="6411960" cy="458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Times New Roman"/>
                </a:rPr>
                <a:t>Структура выпускаемой продукции в 1997 г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78760" y="685800"/>
              <a:ext cx="3524040" cy="702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ff"/>
                  </a:solidFill>
                  <a:latin typeface="Times New Roman"/>
                </a:rPr>
                <a:t>Анализ рынка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14800" y="12952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1480" y="12952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3" name=""/>
          <p:cNvGraphicFramePr/>
          <p:nvPr/>
        </p:nvGraphicFramePr>
        <p:xfrm>
          <a:off x="1523880" y="2590920"/>
          <a:ext cx="6027840" cy="31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590920"/>
                    <a:ext cx="602784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426-6D55-448F-BC82-28910686EF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878760" y="685800"/>
            <a:ext cx="6946560" cy="1555200"/>
            <a:chOff x="878760" y="685800"/>
            <a:chExt cx="6946560" cy="1555200"/>
          </a:xfrm>
        </p:grpSpPr>
        <p:sp>
          <p:nvSpPr>
            <p:cNvPr id="116" name=""/>
            <p:cNvSpPr/>
            <p:nvPr/>
          </p:nvSpPr>
          <p:spPr>
            <a:xfrm>
              <a:off x="1413360" y="1782720"/>
              <a:ext cx="6411960" cy="458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ff"/>
                  </a:solidFill>
                  <a:latin typeface="Times New Roman"/>
                </a:rPr>
                <a:t>Структура выпускаемой продукции в 2001 г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78760" y="685800"/>
              <a:ext cx="3524040" cy="702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ff"/>
                  </a:solidFill>
                  <a:latin typeface="Times New Roman"/>
                </a:rPr>
                <a:t>Анализ рынка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14800" y="12952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81480" y="12952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0" name=""/>
          <p:cNvGraphicFramePr/>
          <p:nvPr/>
        </p:nvGraphicFramePr>
        <p:xfrm>
          <a:off x="1523880" y="2590920"/>
          <a:ext cx="6027840" cy="31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590920"/>
                    <a:ext cx="602784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0B5-6693-4E47-9206-B1BE13AF76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78400" y="914400"/>
            <a:ext cx="3245400" cy="702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План прода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2509920"/>
          <a:ext cx="9142560" cy="164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09920"/>
                    <a:ext cx="9142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828-884E-4ABB-80A3-71F232633C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76960" y="914400"/>
            <a:ext cx="4496400" cy="702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Ценовая полит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2585880"/>
          <a:ext cx="9142560" cy="164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85880"/>
                    <a:ext cx="914256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76F6-9401-4573-91FB-8876087B9E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24400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величение доли рынка до ___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величение объема продаж до _________ $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78040" y="914400"/>
            <a:ext cx="3360960" cy="702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Цели проек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D5D6-CDE7-4D47-B8C8-717DE5E56A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2411280"/>
            <a:ext cx="80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Основание предприятия - 194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Приватизация (акционирование) предприятия - 1993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Начало проекта реструктуризации - 199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8880" y="1079640"/>
            <a:ext cx="3736800" cy="945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История предпри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3B3-7B12-42FE-9D89-C090327654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78040" y="914400"/>
            <a:ext cx="5505480" cy="702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Инвестиционный пла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2451240"/>
          <a:ext cx="914256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51240"/>
                    <a:ext cx="914256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F21-4685-42D4-B7F9-B7A33C1E34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04240" y="1050840"/>
            <a:ext cx="6351120" cy="5191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Прогноз: отчет о прибылях и убытк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98440" y="2128680"/>
          <a:ext cx="7634160" cy="371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2128680"/>
                    <a:ext cx="763416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FE16-9727-4FA7-A85F-B512C8F75F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06280" y="1050840"/>
            <a:ext cx="2827800" cy="5191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Прогноз: бала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80880" y="2133720"/>
          <a:ext cx="8077320" cy="296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077320" cy="29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AA4-4718-4F75-A9C7-0928AC2651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08080" y="1050840"/>
            <a:ext cx="4400280" cy="5191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Прогноз: денежный по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4520" y="2381400"/>
          <a:ext cx="8721720" cy="38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20" y="2381400"/>
                    <a:ext cx="8721720" cy="38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5EE-8AE5-4E9C-9824-E2911EE596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10240" y="1050840"/>
            <a:ext cx="4115520" cy="5191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Потребность в капита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2492280"/>
          <a:ext cx="9142560" cy="137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2280"/>
                    <a:ext cx="914256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0E7-9BD8-4459-9F55-E7214834B6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11440" y="1050840"/>
            <a:ext cx="7265520" cy="5191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Коэффициенты эффективности инвестиц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2357280"/>
          <a:ext cx="9142560" cy="164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7280"/>
                    <a:ext cx="914256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942-D144-43C6-9787-F28F7D85E8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07120" y="1050840"/>
            <a:ext cx="5773680" cy="5191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Анализ чувствительности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3352680"/>
            <a:ext cx="403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РИСОВАТЬ ГРАФ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11240" y="2216160"/>
            <a:ext cx="4940280" cy="318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1745-783D-4D35-A7CF-D78BC9F144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04960" y="1050840"/>
            <a:ext cx="4328640" cy="5191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Финансовое предло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2133720"/>
            <a:ext cx="6781680" cy="36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Нужен стратегический партнер, готовый профинансировать инвестиционный проект предприят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Нужны новые акционеры, готовые инвестировать ______ $US для финансирования инвестиционного проекта предприят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Существующие акционеры готовы предоставить до ___% акционерного капитала новым акционера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C724-98EB-4802-917D-BCBD629622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06400" y="1050840"/>
            <a:ext cx="5319360" cy="5191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Предложение по эмиссии акц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49400" y="2292480"/>
          <a:ext cx="8885160" cy="297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2292480"/>
                    <a:ext cx="888516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15B-4B97-47C7-9906-D8E5AD8FF45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04960" y="822240"/>
            <a:ext cx="4328640" cy="5191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Финансовое предло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67652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Займ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2133720"/>
            <a:ext cx="678168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умма кредит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________ $U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цент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________ %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рок кредит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________ мес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3809880"/>
            <a:ext cx="373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Обеспечение кредит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4343400"/>
            <a:ext cx="7162560" cy="17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Гарантии правитель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Гарантии банк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 Имущество предприятия (здания, оборудование, продукция и т.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122-39C7-4607-8ADB-093E2A8E4C8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65440" y="1050840"/>
            <a:ext cx="6131520" cy="5191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Первоначальный состав акционе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2298600"/>
          <a:ext cx="914256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98600"/>
                    <a:ext cx="914256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CF5-D14A-4922-8590-C3670AE6FC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22880" y="898560"/>
            <a:ext cx="5872680" cy="945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Структура акционерного капитала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после проведения эмиссии акц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320" y="2657520"/>
          <a:ext cx="8915400" cy="243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657520"/>
                    <a:ext cx="8915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9A7-0417-4779-9F57-169D7CF71E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95080" y="1066680"/>
            <a:ext cx="6239880" cy="45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Календарный план реализации про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4520" y="1965240"/>
          <a:ext cx="8840880" cy="371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20" y="1965240"/>
                    <a:ext cx="884088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BF84-17F9-4159-A5CE-707A573F3D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65080" y="1127160"/>
            <a:ext cx="4781520" cy="5191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Текущий состав акционе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2527200"/>
          <a:ext cx="9142560" cy="22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27200"/>
                    <a:ext cx="914256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B18-67F2-4E44-B4C2-B407613091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66880" y="1050840"/>
            <a:ext cx="4901760" cy="5191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Отчет о прибылях и убытка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2509920"/>
          <a:ext cx="9142560" cy="164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09920"/>
                    <a:ext cx="9142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C73-CBD6-4C62-9F17-8F642877D9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39760" y="1003320"/>
            <a:ext cx="2670120" cy="5191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Бала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280" y="2286000"/>
          <a:ext cx="8721720" cy="31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0"/>
                    <a:ext cx="872172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B3F0-1B7B-4DE2-8F6E-EB1BB8C0EE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97680" y="2409840"/>
            <a:ext cx="798804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щая численность работающих _______ челове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 ни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дминистрация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ТР                  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бочие            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4640" y="768240"/>
            <a:ext cx="7976160" cy="754200"/>
            <a:chOff x="764640" y="768240"/>
            <a:chExt cx="7976160" cy="754200"/>
          </a:xfrm>
        </p:grpSpPr>
        <p:sp>
          <p:nvSpPr>
            <p:cNvPr id="62" name=""/>
            <p:cNvSpPr/>
            <p:nvPr/>
          </p:nvSpPr>
          <p:spPr>
            <a:xfrm>
              <a:off x="764640" y="768240"/>
              <a:ext cx="5596920" cy="7020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ff"/>
                  </a:solidFill>
                  <a:latin typeface="Times New Roman"/>
                </a:rPr>
                <a:t>Описание предприятия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07400" y="1003320"/>
              <a:ext cx="1733400" cy="519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imes New Roman"/>
                </a:rPr>
                <a:t>Персона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43600" y="137160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2CCC-7B61-4B8C-8CDF-29B0BDB7AB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62120" y="2362320"/>
          <a:ext cx="7772400" cy="32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62320"/>
                    <a:ext cx="777240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Организационная структу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4EC6-B8A3-4AAC-9705-24B770F190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593800"/>
            <a:ext cx="815328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4240" y="768240"/>
            <a:ext cx="8047440" cy="1607400"/>
            <a:chOff x="534240" y="768240"/>
            <a:chExt cx="8047440" cy="1607400"/>
          </a:xfrm>
        </p:grpSpPr>
        <p:sp>
          <p:nvSpPr>
            <p:cNvPr id="70" name=""/>
            <p:cNvSpPr/>
            <p:nvPr/>
          </p:nvSpPr>
          <p:spPr>
            <a:xfrm>
              <a:off x="534240" y="768240"/>
              <a:ext cx="4900320" cy="7020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ff"/>
                  </a:solidFill>
                  <a:latin typeface="Times New Roman"/>
                </a:rPr>
                <a:t>Описание компании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35560" y="1003320"/>
              <a:ext cx="2346120" cy="1372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imes New Roman"/>
                </a:rPr>
                <a:t>Продукц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ff"/>
                  </a:solidFill>
                  <a:latin typeface="Times New Roman"/>
                </a:rPr>
                <a:t>выпускаемая</a:t>
              </a:r>
              <a:br>
                <a:rPr sz="2800"/>
              </a:br>
              <a:r>
                <a:rPr b="1" lang="en-US" sz="2800" spc="-1" strike="noStrike">
                  <a:solidFill>
                    <a:srgbClr val="6600ff"/>
                  </a:solidFill>
                  <a:latin typeface="Times New Roman"/>
                </a:rPr>
                <a:t>сегодн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81480" y="1371600"/>
              <a:ext cx="106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AO  "Машиностроительный Завод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D22-CC4A-48AB-97A3-856FB0A072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09:34:46Z</dcterms:created>
  <dc:creator>Сергей Колбасин</dc:creator>
  <dc:description/>
  <dc:language>en-US</dc:language>
  <cp:lastModifiedBy>Admin</cp:lastModifiedBy>
  <cp:lastPrinted>1998-01-28T11:13:02Z</cp:lastPrinted>
  <dcterms:modified xsi:type="dcterms:W3CDTF">1999-04-08T13:30:43Z</dcterms:modified>
  <cp:revision>107</cp:revision>
  <dc:subject/>
  <dc:title>Заголовок слайда отсутствует</dc:title>
</cp:coreProperties>
</file>