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913-B8C7-49AC-BDAF-F8B68FAD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079-26B2-4025-B4B8-9DDF7A2F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C90-1F34-4574-90E6-0103B8FC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1D2-AA47-4685-979D-CFA1C710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9DE-1AD9-411A-9C28-C9953B05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EB0-91C0-4362-B953-DEDE771D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DEF-CE0F-441B-A98D-26CC601D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8BF-96F9-4E4B-B1C7-DFE28D99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188-7B9A-4E0A-84A9-43AD5C9F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680-3E8B-4B9B-9119-2FC1B612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A57-3F84-46D1-AEB3-259902F5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7E3-1CFE-4FF2-BD7F-84B897FD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8CAEF8-C647-4DDB-B23D-C2FDABEA4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7320" y="3429000"/>
            <a:ext cx="44370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Location:Rus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Industry: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Tele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320" y="914400"/>
            <a:ext cx="2359800" cy="76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Poli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25600" y="1949400"/>
            <a:ext cx="4654800" cy="64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Investment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029200" y="3048120"/>
            <a:ext cx="3657240" cy="2361960"/>
            <a:chOff x="5029200" y="3048120"/>
            <a:chExt cx="3657240" cy="2361960"/>
          </a:xfrm>
        </p:grpSpPr>
        <p:sp>
          <p:nvSpPr>
            <p:cNvPr id="45" name=""/>
            <p:cNvSpPr/>
            <p:nvPr/>
          </p:nvSpPr>
          <p:spPr>
            <a:xfrm>
              <a:off x="5380560" y="3880080"/>
              <a:ext cx="330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Вставить рисун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29200" y="3048120"/>
              <a:ext cx="3651480" cy="236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8BA-6751-4FF9-A9BD-C189F5025A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5320" y="68580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6880" y="1614600"/>
            <a:ext cx="292824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Futur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560" y="2365200"/>
            <a:ext cx="79232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olicom’s future product ran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ta Transmi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ay Pe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ideo on Dema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ideo Conferenc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larm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91F-97D4-40E0-8166-DDB62694E3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76440" y="5105520"/>
            <a:ext cx="38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5105520"/>
            <a:ext cx="3094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440" y="71604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6880" y="1614600"/>
            <a:ext cx="310644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Current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07080" y="2292480"/>
            <a:ext cx="3879720" cy="2577960"/>
            <a:chOff x="4807080" y="2292480"/>
            <a:chExt cx="3879720" cy="2577960"/>
          </a:xfrm>
        </p:grpSpPr>
        <p:sp>
          <p:nvSpPr>
            <p:cNvPr id="80" name=""/>
            <p:cNvSpPr/>
            <p:nvPr/>
          </p:nvSpPr>
          <p:spPr>
            <a:xfrm>
              <a:off x="5181480" y="3200400"/>
              <a:ext cx="350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7080" y="2292480"/>
              <a:ext cx="3873240" cy="257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844560" y="2292480"/>
            <a:ext cx="3879720" cy="2577960"/>
            <a:chOff x="844560" y="2292480"/>
            <a:chExt cx="3879720" cy="2577960"/>
          </a:xfrm>
        </p:grpSpPr>
        <p:sp>
          <p:nvSpPr>
            <p:cNvPr id="83" name=""/>
            <p:cNvSpPr/>
            <p:nvPr/>
          </p:nvSpPr>
          <p:spPr>
            <a:xfrm>
              <a:off x="1219320" y="3200400"/>
              <a:ext cx="3504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44560" y="2292480"/>
              <a:ext cx="3873600" cy="257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942-25CB-4AAB-AEF6-59FF8DEE23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56880" y="5516640"/>
            <a:ext cx="1317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480" y="5516640"/>
            <a:ext cx="1317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duc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0120" y="71604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6880" y="1614600"/>
            <a:ext cx="292824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Futur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07080" y="2825640"/>
            <a:ext cx="3879720" cy="2578320"/>
            <a:chOff x="4807080" y="2825640"/>
            <a:chExt cx="3879720" cy="2578320"/>
          </a:xfrm>
        </p:grpSpPr>
        <p:sp>
          <p:nvSpPr>
            <p:cNvPr id="90" name=""/>
            <p:cNvSpPr/>
            <p:nvPr/>
          </p:nvSpPr>
          <p:spPr>
            <a:xfrm>
              <a:off x="5181480" y="3733920"/>
              <a:ext cx="350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07080" y="2825640"/>
              <a:ext cx="3873240" cy="257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68240" y="2825640"/>
            <a:ext cx="3880080" cy="2578320"/>
            <a:chOff x="768240" y="2825640"/>
            <a:chExt cx="3880080" cy="2578320"/>
          </a:xfrm>
        </p:grpSpPr>
        <p:sp>
          <p:nvSpPr>
            <p:cNvPr id="93" name=""/>
            <p:cNvSpPr/>
            <p:nvPr/>
          </p:nvSpPr>
          <p:spPr>
            <a:xfrm>
              <a:off x="1143000" y="3733920"/>
              <a:ext cx="350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8240" y="2825640"/>
              <a:ext cx="3873600" cy="257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62C-9B85-4D3F-ABBC-C5D064B354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2760" y="71604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960" y="1614600"/>
            <a:ext cx="563796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Products: Competitive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438280"/>
            <a:ext cx="7543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duc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BC0-0285-4829-9A16-9CDA9DD02F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6000" y="868320"/>
            <a:ext cx="396468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Marke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2509920"/>
          <a:ext cx="9142560" cy="164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09920"/>
                    <a:ext cx="9142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FCD-FCDB-40AA-A298-147182FE19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42240" y="1738440"/>
            <a:ext cx="477540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Product Sales Structure in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8280" y="868320"/>
            <a:ext cx="396468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Marke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438280"/>
          <a:ext cx="72118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72118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A7E-C325-4D53-A495-ACD631C245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43680" y="1738440"/>
            <a:ext cx="629784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Expected Product Sales Structure by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8280" y="868320"/>
            <a:ext cx="396468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Marke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503440"/>
          <a:ext cx="7086600" cy="33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03440"/>
                    <a:ext cx="708660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8EE-6B36-4B7A-A622-6D9166CAA7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6000" y="868320"/>
            <a:ext cx="396468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Marke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2814480"/>
          <a:ext cx="9142560" cy="16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4480"/>
                    <a:ext cx="914256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41880" y="1738440"/>
            <a:ext cx="255636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Sales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CA6-809E-4CA5-BF41-6F99A94010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76000" y="868320"/>
            <a:ext cx="396468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Marke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0120" y="1736640"/>
            <a:ext cx="220140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Pric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662200"/>
          <a:ext cx="9142560" cy="164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2200"/>
                    <a:ext cx="9142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24E-E81E-4BA2-AEE3-025D3AF50F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668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crease of market share to ___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crease of annual sales to $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792000"/>
            <a:ext cx="274464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9000" y="1660680"/>
            <a:ext cx="198504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52B-B16E-46AE-AC83-12274E3C35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639880"/>
            <a:ext cx="80010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6440" y="71604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720" y="1584360"/>
            <a:ext cx="141048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B5C-E290-4A79-BB1E-7AFFB54B1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792000"/>
            <a:ext cx="289692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2589120"/>
          <a:ext cx="8915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89120"/>
                    <a:ext cx="8915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30440" y="1660680"/>
            <a:ext cx="289152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Invest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9B4-423C-4BC9-8F99-CF2ADBD663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1371600" y="2819520"/>
          <a:ext cx="1219032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1600" y="2819520"/>
                    <a:ext cx="1219032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84360" y="792000"/>
            <a:ext cx="19065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960" y="1752480"/>
            <a:ext cx="416556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Projected Financi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1828800"/>
            <a:ext cx="236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Incom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A30-E515-41B2-B85A-AD4D056D30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792000"/>
            <a:ext cx="19065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960" y="1752480"/>
            <a:ext cx="416556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Projected Financi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1905120"/>
            <a:ext cx="236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Balance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320" y="2378160"/>
          <a:ext cx="8915400" cy="324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378160"/>
                    <a:ext cx="891540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EF9-299D-4A08-A8AD-E364C5DF36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792000"/>
            <a:ext cx="19065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960" y="1752480"/>
            <a:ext cx="416556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Projected Financi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905120"/>
            <a:ext cx="236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Cash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4520" y="2381400"/>
          <a:ext cx="872172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381400"/>
                    <a:ext cx="8721720" cy="38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59A-E9A8-44B0-BAD3-073DFEF0F4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792000"/>
            <a:ext cx="19065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680" y="1752480"/>
            <a:ext cx="260676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Capital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2666880"/>
          <a:ext cx="8991720" cy="135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899172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7AE-5529-4A86-A811-DDA636A803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792000"/>
            <a:ext cx="19065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9600" y="1752480"/>
            <a:ext cx="460620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Cash Flow Discounted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2862360"/>
          <a:ext cx="9142560" cy="164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62360"/>
                    <a:ext cx="9142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69A-B062-4EAC-8743-AE2CD343C7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71800" y="25909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исовать граф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8480" y="1050840"/>
            <a:ext cx="306540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Sensitivit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6CC-11B6-4523-9B7A-A3F4D4DC88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360" y="1295280"/>
            <a:ext cx="5377320" cy="519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Company Financial Propos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133720"/>
            <a:ext cx="685800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Seeks strategic/financial partner prepared to commit to funding of Company Investment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Seeks new shareholders to inject new funding of $_______ for development of Company Investment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 either case Company existing shareholders are prepared to surrender up to __% of their equity to new sharehol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D60-97A0-41DF-B4AB-62CDB09E40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90760" y="1066680"/>
            <a:ext cx="8183160" cy="45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Proposal for Issue of New Equity by Private Plac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9400" y="2128680"/>
          <a:ext cx="8393040" cy="31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2128680"/>
                    <a:ext cx="8393040" cy="31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5F4-1772-439B-81DE-5416AA77DB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93280" y="1066680"/>
            <a:ext cx="3385440" cy="45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Bank Loans or L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080" y="3276720"/>
            <a:ext cx="1641960" cy="45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4017960"/>
          <a:ext cx="9137520" cy="13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17960"/>
                    <a:ext cx="913752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0" y="1747800"/>
          <a:ext cx="8915400" cy="104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47800"/>
                    <a:ext cx="891540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CB4-1A95-41A8-9051-4F560C6BFB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2548080"/>
            <a:ext cx="799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arehold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o.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holder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chin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holder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vestment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dividual entiti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holder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r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holder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gional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0120" y="71604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6480" y="1584360"/>
            <a:ext cx="389736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Original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EFD-C994-4B49-9958-8FD9A935E7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95800" y="1066680"/>
            <a:ext cx="6163560" cy="45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Shareholder Structure After Shares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6320" y="1971720"/>
          <a:ext cx="89154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71720"/>
                    <a:ext cx="8915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69B-5D5E-47B7-82ED-01440A4E1E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91480" y="1066680"/>
            <a:ext cx="4898880" cy="45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Project implemettation time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4520" y="1965240"/>
          <a:ext cx="8855280" cy="37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1965240"/>
                    <a:ext cx="88552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5F2-FD0C-4120-8619-99B2B31678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7240" y="2624040"/>
            <a:ext cx="716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arehold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o.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holder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chin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holder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vestment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dividual entiti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holder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r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holder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gional Go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0120" y="71604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7560" y="1584360"/>
            <a:ext cx="383796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Current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8E1-565C-41E2-AA1A-18A981DC52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19280" y="2549520"/>
            <a:ext cx="79675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ales revenu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st of Goods &amp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verhead 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arnings before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et 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0120" y="71604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0040" y="1614600"/>
            <a:ext cx="320868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Incom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23A-A5F1-453C-BAB7-D41CBD3427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66640" y="2397240"/>
            <a:ext cx="7967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x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ther (Intangible Asse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tal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urrent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-T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holders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tal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0120" y="71604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9680" y="1614600"/>
            <a:ext cx="261576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Balance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98600" y="1889280"/>
            <a:ext cx="361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7           1998        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67A-7349-43B6-B9E9-A2458C6F43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040" y="2746440"/>
            <a:ext cx="7913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57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he company staff are expected to be increa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3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0120" y="71604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440" y="1614600"/>
            <a:ext cx="190260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F61-EFE6-4BE6-A094-38875EF17D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82640" y="2809800"/>
          <a:ext cx="757728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2809800"/>
                    <a:ext cx="757728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6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Policom’s</a:t>
            </a:r>
            <a:r>
              <a:rPr b="1" lang="ru-RU" sz="6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Organizational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ECA-6590-4102-9162-2BBBBFA77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3560" y="2365200"/>
            <a:ext cx="79232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olicom’s current 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ultichannel Pay TV Program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5320" y="685800"/>
            <a:ext cx="4187160" cy="70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Company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1614600"/>
            <a:ext cx="3106440" cy="51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Current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vestment Opportunities in Russ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DC8-7CC5-4E0C-9079-A30FF0B7AA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09:34:46Z</dcterms:created>
  <dc:creator>Сергей Колбасин</dc:creator>
  <dc:description/>
  <dc:language>en-US</dc:language>
  <cp:lastModifiedBy>Alexander Idrisov</cp:lastModifiedBy>
  <cp:lastPrinted>1999-04-07T11:38:32Z</cp:lastPrinted>
  <dcterms:modified xsi:type="dcterms:W3CDTF">1999-04-07T13:02:16Z</dcterms:modified>
  <cp:revision>106</cp:revision>
  <dc:subject/>
  <dc:title>Заголовок слайда отсутствует</dc:title>
</cp:coreProperties>
</file>